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4749-873E-4381-A182-9B86E298D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ine in 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t been especially helpful in making decisions about specific instructional interventions or teaching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often set low expectations for student, resulting in diminshed effort to teach students who earn low s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, mentally retarded, specific subgroups…who are then disproportionately placed in special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s have found IQ test discriminatory and mandated an end to their use (p. 241, Salvia, et 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ccultu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. 2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dividual’s particular set of background experiences and opportunities to learn in both formal and informal educational set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1F5D-72BB-4CF5-B67C-D3C5DF915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5A0-3FCA-4B45-AB95-9072C23E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375-EB49-46D7-8583-1F16FB71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7C5-65AD-4591-8BFB-DBC025C5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1DD-6EEC-406A-994F-FC7CCBA0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B713-51B4-415C-94BF-CA375F82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E66C-A92D-4896-A8A2-4542D0F5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2085-E5B0-4FA1-9509-5A0FB581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9474-AF99-4CAE-824E-6481620C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EC96-31CF-4DC1-AC24-B2EDAFDE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EE5E-577A-4C3E-8E03-AC951820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F908-6F0F-447B-99B6-0E4B246B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12F-BAA5-4393-BF18-903F07CA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15F0-2F35-4331-9201-BC968892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AF85-C802-4867-AE25-66E033DC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8CEE-7D8D-4CF8-ACE4-C3F64C25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0900-F602-4CB5-BEC6-5FB72DD1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BF7D-C449-4DEC-8254-394D9218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092-98A8-4141-BCAB-40CF548A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0EC2-3C5D-4EB3-AAD1-3E240E8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071-2877-4228-B4AA-ED566E47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D05-0DC9-4DF6-A668-38443BE9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892-09BB-4D18-B66A-25E32810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EDA-4230-4B5D-9659-FEE3DCE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7CF-385F-49D8-9A7D-4F186F0D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1933-9DB1-4AE1-B508-44F174166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A844-568A-489D-BD68-461CD9DC5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Q Testin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b Quest Projec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040" y="33526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ta Achampong, Marisol Craig, Christy Gruver, Patty Hillery, Lori Stol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cNiff – ED 5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qtestinggroup"/>
          <p:cNvPicPr/>
          <p:nvPr/>
        </p:nvPicPr>
        <p:blipFill>
          <a:blip r:embed="rId1"/>
          <a:stretch/>
        </p:blipFill>
        <p:spPr>
          <a:xfrm rot="20880600">
            <a:off x="1198080" y="515880"/>
            <a:ext cx="14479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Q Test Biases VS IQ Test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rsonality-and-aptitude-career-tests.com/iq-test-bias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∙tel∙li∙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ferred ability; a term or construct used to explain differences in present behavior and to predict difference in futur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IQ Tes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Q testing? What does it look like? How is it administered? What does it measure exactly and based on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ly Used IQ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76520"/>
            <a:ext cx="8381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ufman Assessment Batter for Childre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is-Lennon School Ability Test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body Picture Vocabulary Test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-Binet Intelligence Scale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chsler Intelligence Scale for Children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cock-Johnson III Tests of Cognitive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.Q.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rsg.education.wisc.edu/gifted/iq_test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Unconscious Bias of Intelligenc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uthernct.edu/organizations/hcr/2001/nonfiction/testbia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7:52:31Z</dcterms:created>
  <dc:creator>Andrew</dc:creator>
  <dc:description/>
  <dc:language>en-US</dc:language>
  <cp:lastModifiedBy>LORI</cp:lastModifiedBy>
  <dcterms:modified xsi:type="dcterms:W3CDTF">2010-05-30T14:42:54Z</dcterms:modified>
  <cp:revision>13</cp:revision>
  <dc:subject/>
  <dc:title>Published Test Instrument Critique WIAT</dc:title>
</cp:coreProperties>
</file>